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B740-20C5-44AC-817A-4D043F4E9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2B2A-4B0B-4BB7-A16A-E0830E1F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731B-AB58-4665-A5BE-5A97E4DCA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CA0B-0B84-4B36-9467-BDC399069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4FA2-3312-402B-A84C-DD3A9288E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5F41-E1B6-4C31-A9AC-C07422AC8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53D8-6956-4DD1-978D-A4F7444A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6B46-23D3-4705-A561-67D75CE3F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2297-9C7E-4E48-B3A7-D38F2001A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4802-56ED-434D-951F-4A7EFE35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7E0F-8D2C-4459-B59D-BBF9A657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6926-C57A-46BE-A45E-E24025A8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07379-FACA-4D0F-8332-AB7BB7A02492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://1.bp.blogspot.com/_J1aNxtNxowk/SnIvIPDowdI/AAAAAAAAAAs/HLz2moNn4NQ/s400/Livro+PC.jpg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0" y="51055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98989"/>
                </a:solidFill>
                <a:latin typeface="Calibri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Retângulo 3" descr=""/>
          <p:cNvPicPr/>
          <p:nvPr/>
        </p:nvPicPr>
        <p:blipFill>
          <a:blip r:embed="rId2"/>
          <a:stretch/>
        </p:blipFill>
        <p:spPr>
          <a:xfrm>
            <a:off x="3279600" y="-291960"/>
            <a:ext cx="7444080" cy="309564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tângulo 7"/>
          <p:cNvSpPr/>
          <p:nvPr/>
        </p:nvSpPr>
        <p:spPr>
          <a:xfrm>
            <a:off x="2112840" y="2967120"/>
            <a:ext cx="1857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7" descr="Resultado de imagem para BIBLIOTECAS VIRTUAI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Estudo Virtual Segundo </a:t>
            </a:r>
            <a:br>
              <a:rPr sz="4000"/>
            </a:b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Pedro Dem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599840"/>
            <a:ext cx="9144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O autor compara a busca de informações antes e depois da era digital, hoje as bibliotecas publicas estão esquecidas sendo que as globais permanecem em alta, sendo mais rápida e cômodo na busca do sab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Será que toda essa facilidade não esta fragmentando o saber deixando as pessoas mais preguiçosas na pesquisa? Será que todas essas informações disponíveis e seus autores são confiáveis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3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http://2.bp.blogspot.com/-zz_8wxZ5Jf8/TdVzcmFIzbI/AAAAAAAAAAM/dkuU0TZlIGk/s220/coruja%2Bsab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Estudo Virtual Segundo </a:t>
            </a:r>
            <a:br>
              <a:rPr sz="4000"/>
            </a:b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Pedro Dem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14200" y="1356840"/>
            <a:ext cx="87156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O autor diz que o meio virtual pode ajudar na aprendizagem por ter um caráter atrativo na busca informações. Ele prega que os alunos devem deixar de considerar como única fonte de conhecimento o profess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Hoje encontramos dentro da sala de aula acesso a internet, a redes sociais e outros inúmeros meios de pesquisa ágil e fácil, isso tudo é trabalhado pelo aluno ao mesmo tempo que esta explicando o conteúdo de sua aul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20000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1" descr="http://www.luzpropria.com.br/blog/wp-content/uploads/2012/05/e-commerc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Estudo Virtual Segundo </a:t>
            </a:r>
            <a:br>
              <a:rPr sz="4000"/>
            </a:b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Pedro Dem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O autor propõem que para o individuo ter maior êxito na sua aprendizagem, o ensino tem que ser voltado para pesquisa, deixando o  aluno interagir com o conteúdo e deixar de ser ouvinte para alguém formador de opiniã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Construindo seu próprio conhecimento e consolidando suas ideías, dando assim autoridade de argumento, pois sendo ele o processador da informação ele com certeza saberá defender seu conheciment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https://encrypted-tbn2.gstatic.com/images?q=tbn:ANd9GcQmREOtDB9GzfIQXqiHCbWlGa_imUFCd6PysnFLVJqLbbZfwchRmma8Jw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Calibri"/>
              </a:rPr>
              <a:t>Estudo Virtual Segundo </a:t>
            </a:r>
            <a:br>
              <a:rPr sz="4400"/>
            </a:br>
            <a:r>
              <a:rPr b="1" lang="pt-BR" sz="4400" spc="-1" strike="noStrike">
                <a:solidFill>
                  <a:srgbClr val="000000"/>
                </a:solidFill>
                <a:latin typeface="Calibri"/>
              </a:rPr>
              <a:t>Pedro Dem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Coitado do professor! Estudou tanto pra fic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esquecido nessa era digita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Mais se pararmos para pensar o professor ho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tem um papel ainda maior que antes, ele ag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exerce o papel de educador do bom uso 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todas essas mídias. Professor ainda é ícone, 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alunos de hoje ainda traz pra si que se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educador é alguém de confiança contam 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seus conselhos e orientaçõ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20000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Resultado de imagem para equipe   VIRTUA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Retângulo 4" descr=""/>
          <p:cNvPicPr/>
          <p:nvPr/>
        </p:nvPicPr>
        <p:blipFill>
          <a:blip r:embed="rId2"/>
          <a:stretch/>
        </p:blipFill>
        <p:spPr>
          <a:xfrm>
            <a:off x="-92160" y="-182520"/>
            <a:ext cx="9333000" cy="6284880"/>
          </a:xfrm>
          <a:prstGeom prst="rect">
            <a:avLst/>
          </a:prstGeom>
          <a:ln w="0">
            <a:noFill/>
          </a:ln>
        </p:spPr>
      </p:pic>
      <p:pic>
        <p:nvPicPr>
          <p:cNvPr id="68" name="pikeno e menor - valeu amigo137.mp3" descr=""/>
          <p:cNvPicPr/>
          <p:nvPr/>
        </p:nvPicPr>
        <p:blipFill>
          <a:blip r:embed="rId3"/>
          <a:stretch/>
        </p:blipFill>
        <p:spPr>
          <a:xfrm>
            <a:off x="4419720" y="3711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20000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7286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4T17:09:04Z</dcterms:created>
  <dc:creator>Alessandro</dc:creator>
  <dc:description/>
  <dc:language>en-US</dc:language>
  <cp:lastModifiedBy>Alessandro</cp:lastModifiedBy>
  <dcterms:modified xsi:type="dcterms:W3CDTF">2015-03-26T22:14:43Z</dcterms:modified>
  <cp:revision>29</cp:revision>
  <dc:subject/>
  <dc:title>Slide 1</dc:title>
</cp:coreProperties>
</file>